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7BD-4CB6-4717-8C71-17E63946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ECF-4E4D-437B-B8F8-36E60674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7D0-971F-41BF-928F-52E0A8EB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6DC-4881-463C-B805-E2239472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C8B-2786-43B9-9089-376D11E6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098-3276-4509-9667-4BD161C9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D96-BBC2-4D38-983C-1D1D9287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60D-D17F-4F16-96B8-1EC8942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4E1-F554-4B3D-B821-90408B5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391-B432-41F9-BDA8-717B24F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B62-84C9-4D10-9655-031C777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83C-6B1B-427E-83C9-5733FC3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2D2-9ACC-487B-8B58-2821FB7D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SW343noWDw" TargetMode="External"/><Relationship Id="rId2" Type="http://schemas.openxmlformats.org/officeDocument/2006/relationships/hyperlink" Target="http://www.youtube.com/watch?v=tKbT_06zU6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uerra de las Malvin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años despu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857320" cy="477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400640" cy="24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3076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ia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fSW343noWD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netario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tKbT_06zU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14880" cy="220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38560" cy="25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4162320" cy="286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2286000" cy="271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80880" y="51814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70440" y="2971800"/>
            <a:ext cx="337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1:37:57Z</dcterms:created>
  <dc:creator> </dc:creator>
  <dc:description/>
  <dc:language>en-US</dc:language>
  <cp:lastModifiedBy> </cp:lastModifiedBy>
  <dcterms:modified xsi:type="dcterms:W3CDTF">2012-04-03T11:38:08Z</dcterms:modified>
  <cp:revision>1</cp:revision>
  <dc:subject/>
  <dc:title>La Guerra de las Malvinas 30 años después</dc:title>
</cp:coreProperties>
</file>